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22A8-FC4F-4BB5-B4FD-93E7BC1A3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2F5E-F96F-4286-A5F1-CDAEC69C9B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8D7-9377-4AAE-A31E-97909F0F84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E00-6A60-4DDA-A532-4E2232874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F26-995D-440C-87F3-622C960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369-C3D7-45CB-9828-DA426802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D66-0836-4075-B26A-8BF7981C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6A1-9104-4E79-AE28-77F23D6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C5A2-5F18-4C14-9F9D-F1073B6A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BC8-0A74-4BF0-9CD4-FAEAACA6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56D-435F-455A-BB1C-12A1FB1E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80D-F013-4B13-95E1-1A3BD49B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A89-DDDC-4735-9E54-D023D44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460-CE5E-4DA7-BF14-D4676A44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C9D-A3EA-413E-B7D9-8D762F1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748-B9C6-4F69-ABB8-EC4BB618EB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elawareonline.com/blogs/secondhelpings/uploaded_images/turkey-778333.jpg&amp;imgrefurl=http://www.delawareonline.com/blogs/secondhelpings/labels/Wilmington%20dining.html&amp;usg=__RavWDXKWkbF4Ue4Oe3qGCqqLxeY=&amp;h=369&amp;w=400&amp;sz=26&amp;hl=en&amp;start=6&amp;sig2=Ql21AOsC1Pwr89xVl_Ms3Q&amp;um=1&amp;tbnid=7KLwcTfUqreAsM:&amp;tbnh=114&amp;tbnw=124&amp;prev=/images?q=turkey&amp;hl=en&amp;rls=com.microsoft:*:IE-SearchBox&amp;rlz=1I7ADBS&amp;um=1&amp;ei=12FCSqqoCZ7oswPFpKDMDw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images.google.com/imgres?imgurl=http://www.bibleplaces.com/images/Qumran_Cave_4_interior_51-31tb_wr.jpg&amp;imgrefurl=http://www.bibleplaces.com/qumrancaves.htm&amp;usg=__JDxav0i7onl3ob1E6X1s7XkOkVE=&amp;h=301&amp;w=400&amp;sz=23&amp;hl=en&amp;start=5&amp;sig2=5_6zhbJC--1qJw3q_pgySg&amp;um=1&amp;tbnid=0g3uXvWI0AUY3M:&amp;tbnh=93&amp;tbnw=124&amp;prev=/images?q=cave&amp;hl=en&amp;rls=com.microsoft:*:IE-SearchBox&amp;rlz=1I7ADBS&amp;um=1&amp;ei=X2JCSo_bK4_stgOnsaSsCQ" TargetMode="External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landscaping-ideas.net/images/vegetable%20garden.jpg&amp;imgrefurl=http://gardengist.blogspot.com/2006_03_01_archive.html&amp;usg=__d7Ooj4J5YeeAEXs6wJ88rvp_nSE=&amp;h=344&amp;w=272&amp;sz=32&amp;hl=en&amp;start=6&amp;sig2=IIUGE-LfAssfePUdpU0hoQ&amp;um=1&amp;tbnid=bIOXjfpwXote9M:&amp;tbnh=120&amp;tbnw=95&amp;prev=/images?q=vegetable+garden&amp;hl=en&amp;rls=com.microsoft:*:IE-SearchBox&amp;rlz=1I7ADBS&amp;um=1&amp;ei=HmFCSrDHO4iitgOfwozMDw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Owner\Local Settings\Temporary Internet Files\Content.IE5\IHS6GPE7\MPj04389830000[1].jpg"/>
          <p:cNvPicPr/>
          <p:nvPr/>
        </p:nvPicPr>
        <p:blipFill>
          <a:blip r:embed="rId1"/>
          <a:stretch/>
        </p:blipFill>
        <p:spPr>
          <a:xfrm>
            <a:off x="-685800" y="-31680"/>
            <a:ext cx="11179080" cy="688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ch And Learn: Chicken Litt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 Created by Lindsey Mad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4572000" y="2666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6400800" y="5335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7" descr="http://tbn3.google.com/images?q=tbn:bIOXjfpwXote9M:http://www.landscaping-ideas.net/images/vegetable%2520gard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1600200"/>
            <a:ext cx="2286000" cy="2887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80880" y="6094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2" descr="C:\Users\Daniel\AppData\Local\Microsoft\Windows\Temporary Internet Files\Content.IE5\82P6XMA5\MPPH03935I0000[1].jpg"/>
          <p:cNvPicPr/>
          <p:nvPr/>
        </p:nvPicPr>
        <p:blipFill>
          <a:blip r:embed="rId4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3352680" y="9907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7" descr="http://tbn3.google.com/images?q=tbn:bIOXjfpwXote9M:http://www.landscaping-ideas.net/images/vegetable%2520garde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752480"/>
            <a:ext cx="2590920" cy="32720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80880" y="6094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C:\Users\Daniel\AppData\Local\Microsoft\Windows\Temporary Internet Files\Content.IE5\82P6XMA5\MPPH03935I0000[1].jpg"/>
          <p:cNvPicPr/>
          <p:nvPr/>
        </p:nvPicPr>
        <p:blipFill>
          <a:blip r:embed="rId3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6324480" y="91440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Picture 3" descr="C:\Users\Daniel\AppData\Local\Microsoft\Windows\Temporary Internet Files\Content.IE5\82P6XMA5\MPPH03461I0000[1].jpg"/>
          <p:cNvPicPr/>
          <p:nvPr/>
        </p:nvPicPr>
        <p:blipFill>
          <a:blip r:embed="rId4"/>
          <a:stretch/>
        </p:blipFill>
        <p:spPr>
          <a:xfrm>
            <a:off x="6248520" y="2286000"/>
            <a:ext cx="2468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380880" y="12193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yāzi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C:\Users\Daniel\AppData\Local\Microsoft\Windows\Temporary Internet Files\Content.IE5\82P6XMA5\MPPH03935I0000[1].jpg"/>
          <p:cNvPicPr/>
          <p:nvPr/>
        </p:nvPicPr>
        <p:blipFill>
          <a:blip r:embed="rId1"/>
          <a:stretch/>
        </p:blipFill>
        <p:spPr>
          <a:xfrm>
            <a:off x="152280" y="20574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6400800" y="114300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3" descr="C:\Users\Daniel\AppData\Local\Microsoft\Windows\Temporary Internet Files\Content.IE5\82P6XMA5\MPPH03461I0000[1].jpg"/>
          <p:cNvPicPr/>
          <p:nvPr/>
        </p:nvPicPr>
        <p:blipFill>
          <a:blip r:embed="rId2"/>
          <a:stretch/>
        </p:blipFill>
        <p:spPr>
          <a:xfrm>
            <a:off x="6172200" y="190512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276720" y="7621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" name="Picture 2" descr="http://tbn0.google.com/images?q=tbn:7KLwcTfUqreAsM:http://www.delawareonline.com/blogs/secondhelpings/uploaded_images/turkey-77833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6400800" y="1066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é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Picture 3" descr="C:\Users\Daniel\AppData\Local\Microsoft\Windows\Temporary Internet Files\Content.IE5\82P6XMA5\MPPH03461I0000[1].jpg"/>
          <p:cNvPicPr/>
          <p:nvPr/>
        </p:nvPicPr>
        <p:blipFill>
          <a:blip r:embed="rId1"/>
          <a:stretch/>
        </p:blipFill>
        <p:spPr>
          <a:xfrm>
            <a:off x="6248520" y="228600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505320" y="533520"/>
            <a:ext cx="25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http://tbn0.google.com/images?q=tbn:7KLwcTfUqreAsM:http://www.delawareonline.com/blogs/secondhelpings/uploaded_images/turkey-77833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457200" y="990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C:\Users\Daniel\AppData\Local\Microsoft\Windows\Temporary Internet Files\Content.IE5\E6PXQTG7\MPj02625380000[1].jpg"/>
          <p:cNvPicPr/>
          <p:nvPr/>
        </p:nvPicPr>
        <p:blipFill>
          <a:blip r:embed="rId4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124080" y="1522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uǒ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2" name="Picture 2" descr="http://tbn0.google.com/images?q=tbn:7KLwcTfUqreAsM:http://www.delawareonline.com/blogs/secondhelpings/uploaded_images/turkey-77833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9680"/>
            <a:ext cx="2320920" cy="2133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45720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2" descr="C:\Users\Daniel\AppData\Local\Microsoft\Windows\Temporary Internet Files\Content.IE5\E6PXQTG7\MPj02625380000[1].jpg"/>
          <p:cNvPicPr/>
          <p:nvPr/>
        </p:nvPicPr>
        <p:blipFill>
          <a:blip r:embed="rId3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5715000" y="609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dò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12" descr="http://tbn2.google.com/images?q=tbn:0g3uXvWI0AUY3M:http://www.bibleplaces.com/images/Qumran_Cave_4_interior_51-31tb_w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251460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Users\Daniel\AppData\Local\Microsoft\Windows\Temporary Internet Files\Content.IE5\E6PXQTG7\MPj02625380000[1].jpg"/>
          <p:cNvPicPr/>
          <p:nvPr/>
        </p:nvPicPr>
        <p:blipFill>
          <a:blip r:embed="rId1"/>
          <a:srcRect l="25000" t="0" r="0" b="0"/>
          <a:stretch/>
        </p:blipFill>
        <p:spPr>
          <a:xfrm>
            <a:off x="457200" y="22096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"/>
          <p:cNvSpPr/>
          <p:nvPr/>
        </p:nvSpPr>
        <p:spPr>
          <a:xfrm>
            <a:off x="457200" y="685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húl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0199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dò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12" descr="http://tbn2.google.com/images?q=tbn:0g3uXvWI0AUY3M:http://www.bibleplaces.com/images/Qumran_Cave_4_interior_51-31tb_wr.jpg"/>
          <p:cNvPicPr/>
          <p:nvPr/>
        </p:nvPicPr>
        <p:blipFill>
          <a:blip r:embed="rId2"/>
          <a:stretch/>
        </p:blipFill>
        <p:spPr>
          <a:xfrm>
            <a:off x="5943600" y="25146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200400" y="762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òngwù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2" name="Group 16"/>
          <p:cNvGrpSpPr/>
          <p:nvPr/>
        </p:nvGrpSpPr>
        <p:grpSpPr>
          <a:xfrm>
            <a:off x="3048120" y="1905120"/>
            <a:ext cx="2809800" cy="2819160"/>
            <a:chOff x="3048120" y="1905120"/>
            <a:chExt cx="2809800" cy="2819160"/>
          </a:xfrm>
        </p:grpSpPr>
        <p:pic>
          <p:nvPicPr>
            <p:cNvPr id="133" name="Picture 2" descr="C:\Users\Daniel\AppData\Local\Microsoft\Windows\Temporary Internet Files\Content.IE5\82P6XMA5\MCj04414190000[1].wmf"/>
            <p:cNvPicPr/>
            <p:nvPr/>
          </p:nvPicPr>
          <p:blipFill>
            <a:blip r:embed="rId3"/>
            <a:stretch/>
          </p:blipFill>
          <p:spPr>
            <a:xfrm>
              <a:off x="5091840" y="3206160"/>
              <a:ext cx="766080" cy="105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" descr="C:\Users\Daniel\AppData\Local\Microsoft\Windows\Temporary Internet Files\Content.IE5\M83SO2KY\MCj04414170000[1].wmf"/>
            <p:cNvPicPr/>
            <p:nvPr/>
          </p:nvPicPr>
          <p:blipFill>
            <a:blip r:embed="rId4"/>
            <a:stretch/>
          </p:blipFill>
          <p:spPr>
            <a:xfrm>
              <a:off x="4809960" y="2483280"/>
              <a:ext cx="97020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C:\Users\Daniel\AppData\Local\Microsoft\Windows\Temporary Internet Files\Content.IE5\JV6OP3XZ\MCj04414150000[1].wmf"/>
            <p:cNvPicPr/>
            <p:nvPr/>
          </p:nvPicPr>
          <p:blipFill>
            <a:blip r:embed="rId5"/>
            <a:stretch/>
          </p:blipFill>
          <p:spPr>
            <a:xfrm>
              <a:off x="4598280" y="2772360"/>
              <a:ext cx="81324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C:\Users\Daniel\AppData\Local\Microsoft\Windows\Temporary Internet Files\Content.IE5\82P6XMA5\MCj04414130000[1].wmf"/>
            <p:cNvPicPr/>
            <p:nvPr/>
          </p:nvPicPr>
          <p:blipFill>
            <a:blip r:embed="rId6"/>
            <a:stretch/>
          </p:blipFill>
          <p:spPr>
            <a:xfrm>
              <a:off x="4668840" y="4001400"/>
              <a:ext cx="769320" cy="7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" descr="C:\Users\Daniel\AppData\Local\Microsoft\Windows\Temporary Internet Files\Content.IE5\E6PXQTG7\MCj04414090000[1].wmf"/>
            <p:cNvPicPr/>
            <p:nvPr/>
          </p:nvPicPr>
          <p:blipFill>
            <a:blip r:embed="rId7"/>
            <a:stretch/>
          </p:blipFill>
          <p:spPr>
            <a:xfrm flipH="1" rot="193800">
              <a:off x="3975120" y="2937960"/>
              <a:ext cx="767520" cy="4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8" descr="C:\Users\Daniel\AppData\Local\Microsoft\Windows\Temporary Internet Files\Content.IE5\M83SO2KY\MCj04414070000[1].wmf"/>
            <p:cNvPicPr/>
            <p:nvPr/>
          </p:nvPicPr>
          <p:blipFill>
            <a:blip r:embed="rId8"/>
            <a:stretch/>
          </p:blipFill>
          <p:spPr>
            <a:xfrm>
              <a:off x="3752640" y="2194200"/>
              <a:ext cx="167940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C:\Users\Daniel\AppData\Local\Microsoft\Windows\Temporary Internet Files\Content.IE5\JV6OP3XZ\MCj04414050000[1].wmf"/>
            <p:cNvPicPr/>
            <p:nvPr/>
          </p:nvPicPr>
          <p:blipFill>
            <a:blip r:embed="rId9"/>
            <a:stretch/>
          </p:blipFill>
          <p:spPr>
            <a:xfrm>
              <a:off x="5303160" y="1905120"/>
              <a:ext cx="49284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" descr="C:\Users\Daniel\AppData\Local\Microsoft\Windows\Temporary Internet Files\Content.IE5\82P6XMA5\MCj04414030000[1].wmf"/>
            <p:cNvPicPr/>
            <p:nvPr/>
          </p:nvPicPr>
          <p:blipFill>
            <a:blip r:embed="rId10"/>
            <a:stretch/>
          </p:blipFill>
          <p:spPr>
            <a:xfrm flipH="1">
              <a:off x="4598280" y="3423240"/>
              <a:ext cx="563760" cy="95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1" descr="C:\Users\Daniel\AppData\Local\Microsoft\Windows\Temporary Internet Files\Content.IE5\E6PXQTG7\MCj04413980000[1].wmf"/>
            <p:cNvPicPr/>
            <p:nvPr/>
          </p:nvPicPr>
          <p:blipFill>
            <a:blip r:embed="rId11"/>
            <a:stretch/>
          </p:blipFill>
          <p:spPr>
            <a:xfrm>
              <a:off x="3048120" y="3133800"/>
              <a:ext cx="1656000" cy="15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00400" y="6094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3124080" y="1523880"/>
            <a:ext cx="290844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533520" y="53352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09880" y="5335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762120" y="1295280"/>
            <a:ext cx="2908080" cy="348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Owner\Local Settings\Temporary Internet Files\Content.IE5\F2Z1XB8X\MPj04372130000[1].jpg"/>
          <p:cNvPicPr/>
          <p:nvPr/>
        </p:nvPicPr>
        <p:blipFill>
          <a:blip r:embed="rId2"/>
          <a:stretch/>
        </p:blipFill>
        <p:spPr>
          <a:xfrm>
            <a:off x="4724280" y="1371600"/>
            <a:ext cx="3592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í-piàn shùyè         yí-piàn hěn dà de shùyè        yí-kuàr tiā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C:\Documents and Settings\Owner\Local Settings\Temporary Internet Files\Content.IE5\F2Z1XB8X\MPj04372130000[1].jpg"/>
          <p:cNvPicPr/>
          <p:nvPr/>
        </p:nvPicPr>
        <p:blipFill>
          <a:blip r:embed="rId1"/>
          <a:stretch/>
        </p:blipFill>
        <p:spPr>
          <a:xfrm>
            <a:off x="2438280" y="1600200"/>
            <a:ext cx="2340000" cy="2184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Owner\Local Settings\Temporary Internet Files\Content.IE5\51MFAH64\MPj04373390000[1].jpg"/>
          <p:cNvPicPr/>
          <p:nvPr/>
        </p:nvPicPr>
        <p:blipFill>
          <a:blip r:embed="rId2"/>
          <a:stretch/>
        </p:blipFill>
        <p:spPr>
          <a:xfrm>
            <a:off x="152280" y="1523880"/>
            <a:ext cx="1994040" cy="2392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5257800" y="16002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Donut 11"/>
          <p:cNvSpPr/>
          <p:nvPr/>
        </p:nvSpPr>
        <p:spPr>
          <a:xfrm>
            <a:off x="5334120" y="23623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Down Arrow 10"/>
          <p:cNvSpPr/>
          <p:nvPr/>
        </p:nvSpPr>
        <p:spPr>
          <a:xfrm rot="7306800">
            <a:off x="6344280" y="2652840"/>
            <a:ext cx="484200" cy="1571760"/>
          </a:xfrm>
          <a:prstGeom prst="down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505320" y="838080"/>
            <a:ext cx="27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kuàr tiā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Owner\Local Settings\Temporary Internet Files\Content.IE5\51MFAH64\MPj04373390000[1].jpg"/>
          <p:cNvPicPr/>
          <p:nvPr/>
        </p:nvPicPr>
        <p:blipFill>
          <a:blip r:embed="rId2"/>
          <a:stretch/>
        </p:blipFill>
        <p:spPr>
          <a:xfrm>
            <a:off x="380880" y="1600200"/>
            <a:ext cx="2590920" cy="3108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3200400" y="190512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70" name="Donut 10"/>
          <p:cNvSpPr/>
          <p:nvPr/>
        </p:nvSpPr>
        <p:spPr>
          <a:xfrm>
            <a:off x="3429000" y="304812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52280" y="914400"/>
            <a:ext cx="258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048120" y="8380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kuàr tiā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5638680" y="1905120"/>
            <a:ext cx="29718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Owner\Local Settings\Temporary Internet Files\Content.IE5\IHS6GPE7\MPj04389830000[1].jpg"/>
          <p:cNvPicPr/>
          <p:nvPr/>
        </p:nvPicPr>
        <p:blipFill>
          <a:blip r:embed="rId2"/>
          <a:stretch/>
        </p:blipFill>
        <p:spPr>
          <a:xfrm>
            <a:off x="3429000" y="1981080"/>
            <a:ext cx="2503440" cy="2819520"/>
          </a:xfrm>
          <a:prstGeom prst="rect">
            <a:avLst/>
          </a:prstGeom>
          <a:ln w="0">
            <a:noFill/>
          </a:ln>
        </p:spPr>
      </p:pic>
      <p:sp>
        <p:nvSpPr>
          <p:cNvPr id="76" name="Donut 7"/>
          <p:cNvSpPr/>
          <p:nvPr/>
        </p:nvSpPr>
        <p:spPr>
          <a:xfrm>
            <a:off x="3581280" y="358128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8" descr="C:\Documents and Settings\Owner\Local Settings\Temporary Internet Files\Content.IE5\F2Z1XB8X\MPj04372130000[1].jpg"/>
          <p:cNvPicPr/>
          <p:nvPr/>
        </p:nvPicPr>
        <p:blipFill>
          <a:blip r:embed="rId3"/>
          <a:stretch/>
        </p:blipFill>
        <p:spPr>
          <a:xfrm>
            <a:off x="152280" y="1981080"/>
            <a:ext cx="3021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3808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í-piàn shùyè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Owner\Local Settings\Temporary Internet Files\Content.IE5\51MFAH64\MPj04373390000[1].jpg"/>
          <p:cNvPicPr/>
          <p:nvPr/>
        </p:nvPicPr>
        <p:blipFill>
          <a:blip r:embed="rId1"/>
          <a:stretch/>
        </p:blipFill>
        <p:spPr>
          <a:xfrm>
            <a:off x="228600" y="1219320"/>
            <a:ext cx="2540160" cy="30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Daniel\AppData\Local\Microsoft\Windows\Temporary Internet Files\Content.IE5\82P6XMA5\MCj04363780000[1].png"/>
          <p:cNvPicPr/>
          <p:nvPr/>
        </p:nvPicPr>
        <p:blipFill>
          <a:blip r:embed="rId2"/>
          <a:stretch/>
        </p:blipFill>
        <p:spPr>
          <a:xfrm>
            <a:off x="3124080" y="1523880"/>
            <a:ext cx="2724120" cy="2514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684960" y="304920"/>
            <a:ext cx="21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2" descr="C:\Users\Daniel\AppData\Local\Microsoft\Windows\Temporary Internet Files\Content.IE5\M83SO2KY\MPj04410500000[1].jpg"/>
          <p:cNvPicPr/>
          <p:nvPr/>
        </p:nvPicPr>
        <p:blipFill>
          <a:blip r:embed="rId3"/>
          <a:stretch/>
        </p:blipFill>
        <p:spPr>
          <a:xfrm>
            <a:off x="6629400" y="990720"/>
            <a:ext cx="2209680" cy="3159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6400800" y="380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93480" y="762120"/>
            <a:ext cx="196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C:\Users\Daniel\AppData\Local\Microsoft\Windows\Temporary Internet Files\Content.IE5\M83SO2KY\MPj04410500000[1].jpg"/>
          <p:cNvPicPr/>
          <p:nvPr/>
        </p:nvPicPr>
        <p:blipFill>
          <a:blip r:embed="rId2"/>
          <a:stretch/>
        </p:blipFill>
        <p:spPr>
          <a:xfrm>
            <a:off x="228600" y="16002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14600" y="838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yí-piàn hěn dà de shùyè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3" descr="C:\Documents and Settings\Owner\Local Settings\Temporary Internet Files\Content.IE5\IHS6GPE7\MPj04389830000[1].jpg"/>
          <p:cNvPicPr/>
          <p:nvPr/>
        </p:nvPicPr>
        <p:blipFill>
          <a:blip r:embed="rId3"/>
          <a:stretch/>
        </p:blipFill>
        <p:spPr>
          <a:xfrm>
            <a:off x="2895480" y="20574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Donut 8"/>
          <p:cNvSpPr/>
          <p:nvPr/>
        </p:nvSpPr>
        <p:spPr>
          <a:xfrm>
            <a:off x="3048120" y="29718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6477120" y="7621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xiǎojī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2" descr="C:\Users\Daniel\AppData\Local\Microsoft\Windows\Temporary Internet Files\Content.IE5\82P6XMA5\MCj04363780000[1].png"/>
          <p:cNvPicPr/>
          <p:nvPr/>
        </p:nvPicPr>
        <p:blipFill>
          <a:blip r:embed="rId1"/>
          <a:stretch/>
        </p:blipFill>
        <p:spPr>
          <a:xfrm>
            <a:off x="6553080" y="19810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3124080" y="838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ī-ge yuánz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Picture 7" descr="http://tbn3.google.com/images?q=tbn:bIOXjfpwXote9M:http://www.landscaping-ideas.net/images/vegetable%2520gard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1752480"/>
            <a:ext cx="2590560" cy="327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Daniel\AppData\Local\Microsoft\Windows\Temporary Internet Files\Content.IE5\M83SO2KY\MPj04410500000[1].jpg"/>
          <p:cNvPicPr/>
          <p:nvPr/>
        </p:nvPicPr>
        <p:blipFill>
          <a:blip r:embed="rId4"/>
          <a:stretch/>
        </p:blipFill>
        <p:spPr>
          <a:xfrm>
            <a:off x="228600" y="1600200"/>
            <a:ext cx="2835360" cy="3502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393480" y="8380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ì-zhī muj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34:44Z</dcterms:created>
  <dc:creator>Madsens</dc:creator>
  <dc:description/>
  <dc:language>en-US</dc:language>
  <cp:lastModifiedBy>Mark Sabey</cp:lastModifiedBy>
  <dcterms:modified xsi:type="dcterms:W3CDTF">2009-06-26T15:35:09Z</dcterms:modified>
  <cp:revision>15</cp:revision>
  <dc:subject/>
  <dc:title>Slide 1</dc:title>
</cp:coreProperties>
</file>